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29D1-AB99-40EC-908D-45E834DF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22A1-235D-4229-9761-C57C4A24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E659-F9DA-4F71-836F-F7EC6E3A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4A0-4CE3-40A2-8D8F-A6E313E6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F6EE-1CBA-4085-96AB-27C991FB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B929-2CCF-4424-A0D2-F7CC5457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25DC-9AA1-4103-A438-660EA497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97A8-D480-4CA6-BD04-7977ECE6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2935-5DE1-482D-A2ED-99135019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3D87-FA94-41D9-B507-1DA3F118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15C8-1218-4EB3-83AE-A9E459AB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DE4-F5E7-4ACA-8E57-AEE4A9A0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6CE8-B867-4096-86EA-6067E637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1A20-AA6C-402E-857E-4AAD4878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29D4-9ADC-42A0-B02D-A393678D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7CA7-DF91-453E-9DDC-E75552B6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E5A5-FB41-42AC-A97F-A4288FE1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CDC5-7099-4F18-9060-6B33DD73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1CF8-755F-4E11-A96E-79F66F85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067-0B77-47C4-B202-9B130974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919E-7E4C-4143-93E5-A27F12BE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CAFF-762D-476C-926A-208331B9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F30A-5D88-4ED8-A75E-38096992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947-A13F-45BD-860B-BF3783D6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6FD0-F035-4C80-BBD5-C9D0FAB488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0420-CC90-4B52-BDCF-4206BF9D4C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419560" y="762120"/>
            <a:ext cx="39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DHOCRA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209680"/>
            <a:ext cx="8001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Comic Sans MS"/>
                <a:ea typeface="Arial"/>
              </a:rPr>
              <a:t>A </a:t>
            </a:r>
            <a:r>
              <a:rPr b="1" lang="en-US" sz="2200" spc="-1" strike="noStrike">
                <a:solidFill>
                  <a:srgbClr val="0033cc"/>
                </a:solidFill>
                <a:latin typeface="Comic Sans MS"/>
                <a:ea typeface="Arial"/>
              </a:rPr>
              <a:t>ADHOCRACIA</a:t>
            </a:r>
            <a:r>
              <a:rPr b="1" lang="en-US" sz="2000" spc="-1" strike="noStrike">
                <a:solidFill>
                  <a:srgbClr val="993300"/>
                </a:solidFill>
                <a:latin typeface="Comic Sans MS"/>
                <a:ea typeface="Arial"/>
              </a:rPr>
              <a:t> é um tipo de organização de estilo administrativo solto, com</a:t>
            </a:r>
            <a:r>
              <a:rPr b="0" lang="en-US" sz="2000" spc="-1" strike="noStrike">
                <a:solidFill>
                  <a:srgbClr val="9933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30481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Para propósitos especiai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Pequenas estruturas temporárias, flexíveis, não detalhist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Poucos níveis administrativ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Poucas gerências e pouca normatização, de modo ger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343400"/>
            <a:ext cx="8001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3300"/>
                </a:solidFill>
                <a:latin typeface="Comic Sans MS"/>
                <a:ea typeface="Arial"/>
              </a:rPr>
              <a:t>De certa forma, 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i="1" lang="pt-BR" sz="2000" spc="-1" strike="noStrike">
                <a:solidFill>
                  <a:srgbClr val="0033cc"/>
                </a:solidFill>
                <a:latin typeface="Comic Sans MS"/>
                <a:ea typeface="Arial"/>
              </a:rPr>
              <a:t>adhocraci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pt-BR" sz="2000" spc="-1" strike="noStrike">
                <a:solidFill>
                  <a:srgbClr val="993300"/>
                </a:solidFill>
                <a:latin typeface="Comic Sans MS"/>
                <a:ea typeface="Arial"/>
              </a:rPr>
              <a:t>pode ser vista ainda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um sistema aber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daptativ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emporário e, que muda rapidamente, organizado em torno de problemas a serem resolvidos por grupos de pessoas relativamente estranhas, dotadas de habilidades profissionais divers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GAI-200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8A2D-531A-41BF-BF47-8B05CF52DE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83808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RIGEM DA ADHOCRAC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2133720"/>
            <a:ext cx="44197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NICIALMENTE FOI ESTUDADA POR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TOFFLE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QUE APRESENTAVA UMA PROFECIA PESSIMISTA, QUE TOMAVA CONTA DA MENTE POPULAR, SEGUNDO A QUAL UM DOS PERSISTENTES MITOS ACERCA DO FUTURO FAZIA DO HOMEM UMA ENGRENAGEM IMPOTENTE DENTRO DE UMA VASTA MÁQUINA ORGANIZACIONAL, ESGOTANDO SUA INDIVIDUALIDADE, ESMAGANDO SUA PERSONALIDADE E OBRIGANDO-O A CONFORMAR-SE OU A MORRER –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DENOMINADA BUROCRACI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BD09259_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3200400" cy="327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GAI-200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02F-EB75-4F66-9049-17E85C81F3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362320"/>
            <a:ext cx="4191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S ORGANIZAÇÕES ESTÃO IRREDUTIVELMENTE INTERNALIZADA EM NOSSA SOCIEDADE, ENVOLVENDO O HOMEM EM TODOS OS SENTIDOS DE SUA VIDA, POIS A SOCIEDADE TEMPORÂNEA, MAIS QUE NO PASSADO. POR SUA MAIOR COMPLEXIDADE, ATRIBUI UM ALTO VALOR À RACIONALIDADE (A COMPREENSÃO), À COMPETÊNCIA E À EFETIVIDADE, INGREDIENTES ENCONTRADOS NAS ATUAIS ORGANIZAÇÕ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S00559_" descr=""/>
          <p:cNvPicPr/>
          <p:nvPr/>
        </p:nvPicPr>
        <p:blipFill>
          <a:blip r:embed="rId1"/>
          <a:stretch/>
        </p:blipFill>
        <p:spPr>
          <a:xfrm>
            <a:off x="5029200" y="2590920"/>
            <a:ext cx="3809880" cy="3276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38080" y="83808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  <a:ea typeface="Times New Roman"/>
              </a:rPr>
              <a:t>ORIGEM DA ADHOCRAC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GAI-200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A91-3398-4072-9022-4C061ADD19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2120" y="9907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ORIGEM DA ADHOCRACIA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057400"/>
            <a:ext cx="83059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Na década de 70, </a:t>
            </a:r>
            <a:r>
              <a:rPr b="1" lang="pt-BR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Toffler, Bennis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e outros estudiosos dos fenômenos empresariais percebiam que essa estrutura singular de acomodação social, extremamente coerente, formal e durável, estava tornando-se cada vez menos eficiente, por sua incapacidade de adaptar-se às mudanças nos ambientes organizacionais</a:t>
            </a: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657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sa forma, as diversas organizações projetadas para o futuro, são precisamente aquelas que têm menos possibilidades de dominar no dia de amanhã, de vez que estamos contemplando não o triunfo, mas o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línio da burocracia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5029200"/>
            <a:ext cx="838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Essa forma de organização concebida por </a:t>
            </a:r>
            <a:r>
              <a:rPr b="1" lang="pt-BR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Weber</a:t>
            </a:r>
            <a:r>
              <a:rPr b="0" lang="pt-B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, está se tornando cada vez menos efetiva, desesperadamente descontrolada em face das realidades contemporâneas, provocando, como consequência, o surgimento de outros sistemas, com melhores recursos para atender aos desafios que estão por v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GAI-200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4450-802A-45D6-92A9-07A965A9E9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6858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omic Sans MS"/>
                <a:ea typeface="Arial"/>
              </a:rPr>
              <a:t>O RECONHECIMENTO DA ADHOCRA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83280" y="2162160"/>
            <a:ext cx="57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mic Sans MS"/>
                <a:ea typeface="Arial"/>
              </a:rPr>
              <a:t>Toffler em 1972 afirmava o segui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2895480"/>
            <a:ext cx="8153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stamos, na verdade, testemunhando a invasão repentina de um novo sistema organizacional, que desafiará, num grau cada vez mais constante a burocracia e que, em última instância a suplantará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sta é a organização do futuro. Eu a chamo de </a:t>
            </a:r>
            <a:r>
              <a:rPr b="1" i="1" lang="en-US" sz="2600" spc="-1" strike="noStrike">
                <a:solidFill>
                  <a:srgbClr val="0033cc"/>
                </a:solidFill>
                <a:latin typeface="Arial"/>
                <a:ea typeface="Arial"/>
              </a:rPr>
              <a:t>ADHOCRACIA</a:t>
            </a:r>
            <a:r>
              <a:rPr b="1" lang="en-US" sz="2600" spc="-1" strike="noStrike">
                <a:solidFill>
                  <a:srgbClr val="0033cc"/>
                </a:solidFill>
                <a:latin typeface="Arial"/>
                <a:ea typeface="Arial"/>
              </a:rPr>
              <a:t>”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57913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Segundo Toffler, o homem vai encontrar inúmeras dificuldades para adaptar-se a este novo estilo organizacion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GAI-200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F674-C4B0-4018-8AA0-F7FEFFD193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8380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O CLIMA NA ADHOCRAC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438280"/>
            <a:ext cx="830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Encontrará um clima inteiramente novo e uma pauta diferenciada de problemas, porque a rotatividade dos objetivos organizacionais significa que o relacionamento do indivíduo com qualquer estrutura encurtou-se no tempo, tendendo, portanto, os relacionamentos organizacionais a mudar a um ritmo mais veloz do que anteriormente. Por essa razão, a organização flexível, emergente, temporária, denominada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DHOCRACIA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 tem-se caracterizado pela reunião de grupos-tarefas, para a resolução de problemas específico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GAI-200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F974-E45F-47E7-9B6F-4770B4C906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858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A DURAÇÃO DA ESTRUTURA ADHOCRÁTIC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21337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Depende da natureza do objetivo, podendo ser de um mês, um ano, cinco anos ou mais, de curto praz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31240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ização de uma prova de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Fórmula 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3809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Uma </a:t>
            </a:r>
            <a:r>
              <a:rPr b="1" lang="en-US" sz="1800" spc="-1" strike="noStrike">
                <a:solidFill>
                  <a:srgbClr val="0033cc"/>
                </a:solidFill>
                <a:latin typeface="Comic Sans MS"/>
                <a:ea typeface="Arial"/>
              </a:rPr>
              <a:t>Encomenda da 58 aviõ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de transporte aéreo militar (C-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), com o engajamento de 11.000 empregado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724280"/>
            <a:ext cx="853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Robbins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, conclui que a história moderna da </a:t>
            </a:r>
            <a:r>
              <a:rPr b="1" i="1" lang="pt-BR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ADHOCRACIA 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data da criação das forças-tarefas durante a Segunda Guerra Mundial, quando os militares adotavam equipes </a:t>
            </a:r>
            <a:r>
              <a:rPr b="1" i="1" lang="pt-BR" sz="2000" spc="-1" strike="noStrike">
                <a:solidFill>
                  <a:srgbClr val="0033cc"/>
                </a:solidFill>
                <a:latin typeface="Comic Sans MS"/>
                <a:ea typeface="Arial"/>
              </a:rPr>
              <a:t>ad hoc</a:t>
            </a:r>
            <a:r>
              <a:rPr b="0" lang="pt-BR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 (aqui agora) que eram subseqüentemente dissolvidas após a execução de suas missões.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GAI-200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36F8-0BF5-4D55-8925-5CDB864000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362320" y="533520"/>
            <a:ext cx="464796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Arial"/>
              </a:rPr>
              <a:t>BUROCRA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Arial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Arial"/>
              </a:rPr>
              <a:t>ADHOCR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2860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ADHOCRACIA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, de certo modo, representa uma antítese à organização burocrátic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276720"/>
            <a:ext cx="845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  <a:ea typeface="Arial"/>
              </a:rPr>
              <a:t>Se o ambiente da empresa apresentar mudanças freqüentes, aceleradas, com grande incerteza, riscos, manipulação de tecnologia de ponta, produção não programada, os modelos tradicionais, burocráticos, não se ajustam, daí advém a idéia da institucionalização das unidades organizacionais auto-destrutivas, ou sej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uma organização temporária, descartável, portanto, a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ADHOCRACIA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GAI-200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341-8A44-4C02-B85B-50C613109F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38080" y="9907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NCLUINDO A ADHOCRACIA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1337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As organizações que enfrentam mudanças rápidas e inesperadas e utilizam tecnologias complexas, exigindo a integração de atividades de homens especializados e heterogêneos, poderão desempenhar-se mais eficazmente em ambientes não burocráticos, pois, não obstante a burocracia adequar-se a uma organização de grande produtividade de bens ou serviços padronizados, a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ADHOCRACIA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é uma alternativa viável, quando se necessita de inovação e flexibilidade e quando as tarefas são mais técnicas, complicadas ou não programáveis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GAI-200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2D2C-BA19-4F04-89E0-D6589E1A71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8:15:42Z</dcterms:created>
  <dc:creator>lucia</dc:creator>
  <dc:description/>
  <dc:language>en-US</dc:language>
  <cp:lastModifiedBy>Cristiane Domingues Santos</cp:lastModifiedBy>
  <dcterms:modified xsi:type="dcterms:W3CDTF">2004-08-12T13:58:07Z</dcterms:modified>
  <cp:revision>7</cp:revision>
  <dc:subject/>
  <dc:title>Apresentação do PowerPoint</dc:title>
</cp:coreProperties>
</file>